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552D67-BB9F-4052-AB32-C9D06B1C27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0C245-9228-49B9-BF47-378D4F96A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6EE8C3-3B32-4DC1-94EA-79709A780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975A9-19F0-425C-808A-96FEAD2DA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226CF5-A2B6-4E7C-9B21-5190C60A70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DC5295-C04E-47F6-90F3-F97720BD5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0FB6AD-832E-4C5F-A261-B13759124F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1CBC9-DE1C-400E-9472-B47A38348F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1AE40-BE9E-4DC2-BFD7-94769E46F8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3DF2CE-5F13-45C7-82B2-AEA4AD33F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22BBC-7330-4416-A21B-7796329E7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A08FC-89FF-4560-AA94-5C78A49F0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1B3B7-B3DB-400B-9B70-7BCEE0AD9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13A57-7050-4516-AEAB-C01D3A599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B6B405-038A-4922-B09A-BC9C60A7FB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351F92-DF2E-4FD0-8113-64EF7ED539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CA0092-36B4-4C57-951D-A4DAC3F68A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0A2B1-FE6C-4130-8D4D-BF70BDC55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76F56-4B42-438E-A0B8-E523D2AC8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15D61-225D-4662-A280-F04FDF992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06A50-5ECD-4E59-8DCD-2C87F651E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A0854-0F9F-4094-9321-CCE132CBE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B14D3-5977-4790-B0A9-BE039722F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14B11-ABFB-4E54-B659-131411F7F4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A7C29-2634-44C7-A6DE-A0EC067FC5CC}"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931E2-E7F2-40B7-BB88-AC4C70665EA9}"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Steps%20to%20Saving%20Files%20Using%20eChalk.doc" TargetMode="External"/><Relationship Id="rId2" Type="http://schemas.openxmlformats.org/officeDocument/2006/relationships/hyperlink" Target="file:///Steps%20to%20Adding%20Bookmark%20Using%20eChalk.doc"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Steps%20to%20Saving%20Files%20Using%20eChalk.doc" TargetMode="External"/><Relationship Id="rId2" Type="http://schemas.openxmlformats.org/officeDocument/2006/relationships/hyperlink" Target="file:///Steps%20to%20Adding%20Bookmark%20Using%20eChalk.doc"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5d2204"/>
                </a:solidFill>
                <a:latin typeface="Arial"/>
              </a:rPr>
              <a:t>General</a:t>
            </a: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5d2204"/>
                </a:solidFill>
                <a:latin typeface="Arial"/>
              </a:rPr>
              <a:t>Backing Up Your Work Using eChalk</a:t>
            </a: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d2204"/>
                </a:solidFill>
                <a:latin typeface="Arial"/>
              </a:rPr>
              <a:t>Utilizing eChalk to Back Up Work</a:t>
            </a:r>
            <a:endParaRPr b="1" lang="en-US" sz="40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9"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at are some advantages to saving your files and bookmark sites on eChalk?  What are some disadvantages? </a:t>
            </a:r>
            <a:endParaRPr b="0" lang="en-US" sz="3200" spc="-1" strike="noStrike">
              <a:solidFill>
                <a:srgbClr val="21216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Discuss creative ways you organized your favorite sites.</a:t>
            </a:r>
            <a:endParaRPr b="0" lang="en-US" sz="3200" spc="-1" strike="noStrike">
              <a:solidFill>
                <a:srgbClr val="212164"/>
              </a:solidFill>
              <a:latin typeface="Arial"/>
            </a:endParaRPr>
          </a:p>
        </p:txBody>
      </p:sp>
      <p:sp>
        <p:nvSpPr>
          <p:cNvPr id="111"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2"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Advantages</a:t>
            </a:r>
            <a:r>
              <a:rPr b="0" lang="en-US" sz="3200" spc="-1" strike="noStrike">
                <a:solidFill>
                  <a:srgbClr val="212164"/>
                </a:solidFill>
                <a:latin typeface="Arial"/>
              </a:rPr>
              <a:t>	</a:t>
            </a:r>
            <a:r>
              <a:rPr b="0" lang="en-US" sz="3200" spc="-1" strike="noStrike">
                <a:solidFill>
                  <a:srgbClr val="212164"/>
                </a:solidFill>
                <a:latin typeface="Arial"/>
              </a:rPr>
              <a:t>	</a:t>
            </a:r>
            <a:r>
              <a:rPr b="0" lang="en-US" sz="3200" spc="-1" strike="noStrike">
                <a:solidFill>
                  <a:srgbClr val="212164"/>
                </a:solidFill>
                <a:latin typeface="Arial"/>
              </a:rPr>
              <a:t>	</a:t>
            </a:r>
            <a:r>
              <a:rPr b="0" lang="en-US" sz="3200" spc="-1" strike="noStrike">
                <a:solidFill>
                  <a:srgbClr val="212164"/>
                </a:solidFill>
                <a:latin typeface="Arial"/>
              </a:rPr>
              <a:t>Disadvantages</a:t>
            </a:r>
            <a:endParaRPr b="0" lang="en-US" sz="3200" spc="-1" strike="noStrike">
              <a:solidFill>
                <a:srgbClr val="212164"/>
              </a:solidFill>
              <a:latin typeface="Arial"/>
            </a:endParaRPr>
          </a:p>
        </p:txBody>
      </p:sp>
      <p:sp>
        <p:nvSpPr>
          <p:cNvPr id="114"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5"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6"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17"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Answers</a:t>
            </a: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34308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18"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How do I save my files on eChalk</a:t>
            </a:r>
            <a:r>
              <a:rPr b="0" lang="en-US" sz="3200" spc="-1" strike="noStrike">
                <a:solidFill>
                  <a:srgbClr val="212164"/>
                </a:solidFill>
                <a:latin typeface="Arial"/>
              </a:rPr>
              <a:t>?</a:t>
            </a:r>
            <a:endParaRPr b="0" lang="en-US" sz="3200" spc="-1" strike="noStrike">
              <a:solidFill>
                <a:srgbClr val="21216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can I bookmark my favorite websites on eChalk?</a:t>
            </a:r>
            <a:br>
              <a:rPr sz="3200"/>
            </a:br>
            <a:br>
              <a:rPr sz="3200"/>
            </a:br>
            <a:r>
              <a:rPr b="0" lang="en-US" sz="3200" spc="-1" strike="noStrike">
                <a:solidFill>
                  <a:srgbClr val="212164"/>
                </a:solidFill>
                <a:latin typeface="Arial"/>
              </a:rPr>
              <a:t> </a:t>
            </a:r>
            <a:endParaRPr b="0" lang="en-US" sz="3200" spc="-1" strike="noStrike">
              <a:solidFill>
                <a:srgbClr val="212164"/>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Often times we are left without important documents because we can’t access them. </a:t>
            </a:r>
            <a:endParaRPr b="0" lang="en-US" sz="3200" spc="-1" strike="noStrike">
              <a:solidFill>
                <a:srgbClr val="212164"/>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s session will focus on utilizing eChalk as another source to store files and bookmark sites.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Log onto your schools eChalk homepage</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o save a file follow the </a:t>
            </a:r>
            <a:r>
              <a:rPr b="0" lang="en-US" sz="3200" spc="-1" strike="noStrike" u="sng">
                <a:solidFill>
                  <a:srgbClr val="995421"/>
                </a:solidFill>
                <a:uFillTx/>
                <a:latin typeface="Arial"/>
                <a:hlinkClick r:id="rId1"/>
              </a:rPr>
              <a:t>Steps to Save a File eChalk</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Open an additional window in internet explorer.  Visit a website you like.</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o save this website follow the </a:t>
            </a:r>
            <a:r>
              <a:rPr b="0" lang="en-US" sz="3200" spc="-1" strike="noStrike" u="sng">
                <a:solidFill>
                  <a:srgbClr val="995421"/>
                </a:solidFill>
                <a:uFillTx/>
                <a:latin typeface="Arial"/>
                <a:hlinkClick r:id="rId2"/>
              </a:rPr>
              <a:t>Steps to Add Bookmarks eChalk</a:t>
            </a:r>
            <a:endParaRPr b="0" lang="en-US" sz="3200" spc="-1" strike="noStrike">
              <a:solidFill>
                <a:srgbClr val="212164"/>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Before you get started on your own let’s recap the procedure I just modeled for you.</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After I log onto my schools eChalk homepage what do I do?</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e next step is?</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	</a:t>
            </a:r>
            <a:r>
              <a:rPr b="0" i="1" lang="en-US" sz="3200" spc="-1" strike="noStrike">
                <a:solidFill>
                  <a:srgbClr val="212164"/>
                </a:solidFill>
                <a:latin typeface="Arial"/>
              </a:rPr>
              <a:t>Take the next 30 minutes to save files to eChalk.  You also want to practice adding your favorite sites to the bookmark section.  Be sure to take advantage of the organizational tools offered in the bookmark section.</a:t>
            </a:r>
            <a:br>
              <a:rPr sz="3200"/>
            </a:br>
            <a:br>
              <a:rPr sz="3200"/>
            </a:b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Log onto your schools eChalk homepage</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o save a file follow the </a:t>
            </a:r>
            <a:r>
              <a:rPr b="0" lang="en-US" sz="3200" spc="-1" strike="noStrike" u="sng">
                <a:solidFill>
                  <a:srgbClr val="995421"/>
                </a:solidFill>
                <a:uFillTx/>
                <a:latin typeface="Arial"/>
                <a:hlinkClick r:id="rId1"/>
              </a:rPr>
              <a:t>Steps to Save a File eChalk</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Open an additional window in internet explorer.  Visit a website you like.</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o save this website follow the </a:t>
            </a:r>
            <a:r>
              <a:rPr b="0" lang="en-US" sz="3200" spc="-1" strike="noStrike" u="sng">
                <a:solidFill>
                  <a:srgbClr val="995421"/>
                </a:solidFill>
                <a:uFillTx/>
                <a:latin typeface="Arial"/>
                <a:hlinkClick r:id="rId2"/>
              </a:rPr>
              <a:t>Steps to Add Bookmarks eChalk</a:t>
            </a:r>
            <a:endParaRPr b="0" lang="en-US" sz="3200" spc="-1" strike="noStrike">
              <a:solidFill>
                <a:srgbClr val="212164"/>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YCDOE</cp:lastModifiedBy>
  <dcterms:modified xsi:type="dcterms:W3CDTF">2007-02-01T21:19:17Z</dcterms:modified>
  <cp:revision>8</cp:revision>
  <dc:subject/>
  <dc:title>Workshop Title</dc:title>
</cp:coreProperties>
</file>